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899E-EDA6-4146-A68A-C0B55F10D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B024-B73C-4092-B770-A71F98D3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4F55-8DC7-4084-92B0-3D75A6CCF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409E-DDB4-41C3-83D4-AA74A6F04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18C2-3908-45F2-8216-9AB5E783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FDE4-984C-403A-908A-910CA0A8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3BC8-3B4C-47F5-8245-7EBA1A26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152F-8C26-460C-84D7-A8FA0259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4B71-FC7B-4392-B11B-223776A2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CE1D-2D42-41B3-B5C2-3CC685CF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ED2E-301A-4A67-AE56-7C797C98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0E0B-770D-4A5C-A14B-7CEF4558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2A11-F81C-45A2-982D-EF6133D14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slide15.xml"/><Relationship Id="rId10" Type="http://schemas.openxmlformats.org/officeDocument/2006/relationships/slide" Target=""/><Relationship Id="rId11" Type="http://schemas.openxmlformats.org/officeDocument/2006/relationships/slide" Target="slide16.xml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slide11.xml"/><Relationship Id="rId17" Type="http://schemas.openxmlformats.org/officeDocument/2006/relationships/slide" Target=""/><Relationship Id="rId18" Type="http://schemas.openxmlformats.org/officeDocument/2006/relationships/slide" Target="slide12.xml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slide7.xml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slide19.xml"/><Relationship Id="rId27" Type="http://schemas.openxmlformats.org/officeDocument/2006/relationships/slide" Target=""/><Relationship Id="rId28" Type="http://schemas.openxmlformats.org/officeDocument/2006/relationships/slide" Target="slide20.xml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slide3.xml"/><Relationship Id="rId3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7724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250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25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ermine whether the vec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parallel, orthogon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 nei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=&lt;15,45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=&lt;-5,12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neith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0,3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&lt;4,-2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-6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u=&lt;-1,3&gt;, v=&lt;2,-4&gt;, and w=&lt;1,-2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(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u)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304920"/>
            <a:ext cx="716292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&lt;-14,28&gt;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gle betw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=2i-3j and v=i-2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7.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ermine whether the vec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parallel, orthogon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 nei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=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=i-2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neith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5486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&lt;-1,3&gt;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&lt;2,-4&g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-14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u=&lt;-1,3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u·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1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gle betw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=4j and v=-3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9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ermine whether the vec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parallel, orthogon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 nei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=8i+4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=-2i-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parall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2,-3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&lt;6,4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8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9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1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2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3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380880"/>
            <a:ext cx="1600200" cy="3373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ot 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380880"/>
            <a:ext cx="1752480" cy="5806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rations with Dot Produ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380880"/>
            <a:ext cx="1600200" cy="9169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gle Between Two Ve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10280" y="380880"/>
            <a:ext cx="1752840" cy="7333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llel, Orthogonal, or Nei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4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5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7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8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9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0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1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2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4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5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6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7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8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29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30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u=&lt;-1,3&gt;, v=&lt;2,-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4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-56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gle betw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=-8i+4j and v=-6i-3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53.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orthogo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81080" y="1981080"/>
            <a:ext cx="5486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ermine whether the vec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parallel, orthogon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 nei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=&lt;2,-5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=&lt;10,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4,5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&lt;2,3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u=&lt;-1,3&gt;, v=&lt;2,-4&gt;, and w=&lt;1,-2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(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v)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-14,28&gt;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angle betwee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=&lt;4,3&gt; and v=&lt;3,5&gt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152280"/>
            <a:ext cx="7086600" cy="13230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22.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termine whether the vecto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 parallel, orthogonal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r neit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=&lt;2,-3&g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=&lt;6,4&g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orthogo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&lt;2,-1&gt;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&lt;1,2&g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u=&lt;-1,3&gt;, v=&lt;2,-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2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228600"/>
            <a:ext cx="716256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-28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gle betw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=&lt;4,4&gt; and v=&lt;-2,0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1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abeason</cp:lastModifiedBy>
  <cp:lastPrinted>2001-01-31T16:21:13Z</cp:lastPrinted>
  <dcterms:modified xsi:type="dcterms:W3CDTF">2009-02-26T16:08:54Z</dcterms:modified>
  <cp:revision>88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